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FFA47D5-E01F-44FF-9BF0-3EF22D724B4D}" type="doc">
      <dgm:prSet loTypeId="urn:microsoft.com/office/officeart/2005/8/layout/funnel1" loCatId="relationship" qsTypeId="urn:microsoft.com/office/officeart/2005/8/quickstyle/3d2" qsCatId="3D" csTypeId="urn:microsoft.com/office/officeart/2005/8/colors/colorful5" csCatId="colorful" phldr="1"/>
      <dgm:spPr/>
      <dgm:t>
        <a:bodyPr/>
        <a:lstStyle/>
        <a:p>
          <a:endParaRPr lang="en-US"/>
        </a:p>
      </dgm:t>
    </dgm:pt>
    <dgm:pt modelId="{B706EA68-4594-4A08-9A8E-CB5981770FF0}">
      <dgm:prSet phldrT="[Text]"/>
      <dgm:spPr/>
      <dgm:t>
        <a:bodyPr/>
        <a:lstStyle/>
        <a:p>
          <a:r>
            <a:rPr lang="en-US" dirty="0" smtClean="0"/>
            <a:t>Mid-Life Crisis</a:t>
          </a:r>
          <a:endParaRPr lang="en-US" dirty="0"/>
        </a:p>
      </dgm:t>
    </dgm:pt>
    <dgm:pt modelId="{7A53DED9-D310-480F-A1F2-C67B7835A267}" type="parTrans" cxnId="{6187F022-56F6-407E-837E-8990519713E3}">
      <dgm:prSet/>
      <dgm:spPr/>
      <dgm:t>
        <a:bodyPr/>
        <a:lstStyle/>
        <a:p>
          <a:endParaRPr lang="en-US"/>
        </a:p>
      </dgm:t>
    </dgm:pt>
    <dgm:pt modelId="{E18235B8-5D59-4847-B29D-A8C6FF313D22}" type="sibTrans" cxnId="{6187F022-56F6-407E-837E-8990519713E3}">
      <dgm:prSet/>
      <dgm:spPr/>
      <dgm:t>
        <a:bodyPr/>
        <a:lstStyle/>
        <a:p>
          <a:endParaRPr lang="en-US"/>
        </a:p>
      </dgm:t>
    </dgm:pt>
    <dgm:pt modelId="{F2F035EC-397C-44CF-B486-F8EBF7F424B3}">
      <dgm:prSet phldrT="[Text]"/>
      <dgm:spPr/>
      <dgm:t>
        <a:bodyPr/>
        <a:lstStyle/>
        <a:p>
          <a:r>
            <a:rPr lang="en-US" dirty="0" smtClean="0"/>
            <a:t>Age Of Mastery</a:t>
          </a:r>
          <a:endParaRPr lang="en-US" dirty="0"/>
        </a:p>
      </dgm:t>
    </dgm:pt>
    <dgm:pt modelId="{675FBA8D-7AFE-4FA2-989A-0BCDBBF03810}" type="parTrans" cxnId="{E193162D-6A95-4560-B0B9-FE8D8F6E0A8C}">
      <dgm:prSet/>
      <dgm:spPr/>
      <dgm:t>
        <a:bodyPr/>
        <a:lstStyle/>
        <a:p>
          <a:endParaRPr lang="en-US"/>
        </a:p>
      </dgm:t>
    </dgm:pt>
    <dgm:pt modelId="{1F40D6CF-9B8C-4DA0-B037-E2C1F967A9BA}" type="sibTrans" cxnId="{E193162D-6A95-4560-B0B9-FE8D8F6E0A8C}">
      <dgm:prSet/>
      <dgm:spPr/>
      <dgm:t>
        <a:bodyPr/>
        <a:lstStyle/>
        <a:p>
          <a:endParaRPr lang="en-US"/>
        </a:p>
      </dgm:t>
    </dgm:pt>
    <dgm:pt modelId="{DAA1ED76-84C4-4B11-82AD-DEA9B7ED439E}">
      <dgm:prSet phldrT="[Text]"/>
      <dgm:spPr/>
      <dgm:t>
        <a:bodyPr/>
        <a:lstStyle/>
        <a:p>
          <a:r>
            <a:rPr lang="en-US" dirty="0" err="1" smtClean="0"/>
            <a:t>Middlescence</a:t>
          </a:r>
          <a:r>
            <a:rPr lang="en-US" dirty="0" smtClean="0"/>
            <a:t> </a:t>
          </a:r>
          <a:endParaRPr lang="en-US" dirty="0"/>
        </a:p>
      </dgm:t>
    </dgm:pt>
    <dgm:pt modelId="{E5767D2A-98FA-46E3-8D41-950010F3A6AB}" type="parTrans" cxnId="{0CB1ADE6-8F88-468D-80CE-4046AC1CA7DE}">
      <dgm:prSet/>
      <dgm:spPr/>
      <dgm:t>
        <a:bodyPr/>
        <a:lstStyle/>
        <a:p>
          <a:endParaRPr lang="en-US"/>
        </a:p>
      </dgm:t>
    </dgm:pt>
    <dgm:pt modelId="{8052D0FC-8837-4F4F-9508-520A75A05FD3}" type="sibTrans" cxnId="{0CB1ADE6-8F88-468D-80CE-4046AC1CA7DE}">
      <dgm:prSet/>
      <dgm:spPr/>
      <dgm:t>
        <a:bodyPr/>
        <a:lstStyle/>
        <a:p>
          <a:endParaRPr lang="en-US"/>
        </a:p>
      </dgm:t>
    </dgm:pt>
    <dgm:pt modelId="{A92D4E86-CAF3-4CA7-855D-0DF65C776044}">
      <dgm:prSet phldrT="[Text]"/>
      <dgm:spPr/>
      <dgm:t>
        <a:bodyPr/>
        <a:lstStyle/>
        <a:p>
          <a:r>
            <a:rPr lang="en-US" dirty="0" smtClean="0"/>
            <a:t>Identity Achievement</a:t>
          </a:r>
          <a:endParaRPr lang="en-US" dirty="0"/>
        </a:p>
      </dgm:t>
    </dgm:pt>
    <dgm:pt modelId="{CC087DD2-7968-45BF-A130-CE697C6BAC07}" type="parTrans" cxnId="{2EA98137-D3F7-4607-81AB-82C8F5967C7C}">
      <dgm:prSet/>
      <dgm:spPr/>
      <dgm:t>
        <a:bodyPr/>
        <a:lstStyle/>
        <a:p>
          <a:endParaRPr lang="en-US"/>
        </a:p>
      </dgm:t>
    </dgm:pt>
    <dgm:pt modelId="{8E1F5199-4661-4337-AB08-3A9C429AC079}" type="sibTrans" cxnId="{2EA98137-D3F7-4607-81AB-82C8F5967C7C}">
      <dgm:prSet/>
      <dgm:spPr/>
      <dgm:t>
        <a:bodyPr/>
        <a:lstStyle/>
        <a:p>
          <a:endParaRPr lang="en-US"/>
        </a:p>
      </dgm:t>
    </dgm:pt>
    <dgm:pt modelId="{A7688C89-0F63-4AAC-B6A3-218AE12BB28F}" type="pres">
      <dgm:prSet presAssocID="{BFFA47D5-E01F-44FF-9BF0-3EF22D724B4D}" presName="Name0" presStyleCnt="0">
        <dgm:presLayoutVars>
          <dgm:chMax val="4"/>
          <dgm:resizeHandles val="exact"/>
        </dgm:presLayoutVars>
      </dgm:prSet>
      <dgm:spPr/>
    </dgm:pt>
    <dgm:pt modelId="{1A8663C3-E707-4F06-8CD9-B38B552A2337}" type="pres">
      <dgm:prSet presAssocID="{BFFA47D5-E01F-44FF-9BF0-3EF22D724B4D}" presName="ellipse" presStyleLbl="trBgShp" presStyleIdx="0" presStyleCnt="1"/>
      <dgm:spPr/>
    </dgm:pt>
    <dgm:pt modelId="{F8C75483-25E7-4A6A-88E6-ABD777688484}" type="pres">
      <dgm:prSet presAssocID="{BFFA47D5-E01F-44FF-9BF0-3EF22D724B4D}" presName="arrow1" presStyleLbl="fgShp" presStyleIdx="0" presStyleCnt="1"/>
      <dgm:spPr/>
    </dgm:pt>
    <dgm:pt modelId="{450862BC-7D98-4465-AD6B-212A238A6FE2}" type="pres">
      <dgm:prSet presAssocID="{BFFA47D5-E01F-44FF-9BF0-3EF22D724B4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4B96047-40A3-45F1-8CA4-56F6E9397B67}" type="pres">
      <dgm:prSet presAssocID="{F2F035EC-397C-44CF-B486-F8EBF7F424B3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A294344-6BAC-4160-84D0-D0B502917A6D}" type="pres">
      <dgm:prSet presAssocID="{DAA1ED76-84C4-4B11-82AD-DEA9B7ED439E}" presName="item2" presStyleLbl="node1" presStyleIdx="1" presStyleCnt="3">
        <dgm:presLayoutVars>
          <dgm:bulletEnabled val="1"/>
        </dgm:presLayoutVars>
      </dgm:prSet>
      <dgm:spPr/>
    </dgm:pt>
    <dgm:pt modelId="{9B9A88F3-7A7D-43A4-AA2B-9099545A0EB0}" type="pres">
      <dgm:prSet presAssocID="{A92D4E86-CAF3-4CA7-855D-0DF65C776044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14F3D193-5D83-4E8D-B72B-FB1493B3E637}" type="pres">
      <dgm:prSet presAssocID="{BFFA47D5-E01F-44FF-9BF0-3EF22D724B4D}" presName="funnel" presStyleLbl="trAlignAcc1" presStyleIdx="0" presStyleCnt="1" custLinFactNeighborX="-1570" custLinFactNeighborY="-109"/>
      <dgm:spPr/>
    </dgm:pt>
  </dgm:ptLst>
  <dgm:cxnLst>
    <dgm:cxn modelId="{6187F022-56F6-407E-837E-8990519713E3}" srcId="{BFFA47D5-E01F-44FF-9BF0-3EF22D724B4D}" destId="{B706EA68-4594-4A08-9A8E-CB5981770FF0}" srcOrd="0" destOrd="0" parTransId="{7A53DED9-D310-480F-A1F2-C67B7835A267}" sibTransId="{E18235B8-5D59-4847-B29D-A8C6FF313D22}"/>
    <dgm:cxn modelId="{040C8480-C38F-4C90-8B5C-C7A5B4F4C4BF}" type="presOf" srcId="{DAA1ED76-84C4-4B11-82AD-DEA9B7ED439E}" destId="{D4B96047-40A3-45F1-8CA4-56F6E9397B67}" srcOrd="0" destOrd="0" presId="urn:microsoft.com/office/officeart/2005/8/layout/funnel1"/>
    <dgm:cxn modelId="{2EA98137-D3F7-4607-81AB-82C8F5967C7C}" srcId="{BFFA47D5-E01F-44FF-9BF0-3EF22D724B4D}" destId="{A92D4E86-CAF3-4CA7-855D-0DF65C776044}" srcOrd="3" destOrd="0" parTransId="{CC087DD2-7968-45BF-A130-CE697C6BAC07}" sibTransId="{8E1F5199-4661-4337-AB08-3A9C429AC079}"/>
    <dgm:cxn modelId="{9566355E-F241-453F-858E-59603A890F55}" type="presOf" srcId="{BFFA47D5-E01F-44FF-9BF0-3EF22D724B4D}" destId="{A7688C89-0F63-4AAC-B6A3-218AE12BB28F}" srcOrd="0" destOrd="0" presId="urn:microsoft.com/office/officeart/2005/8/layout/funnel1"/>
    <dgm:cxn modelId="{26A132AA-4CF3-4189-A6EC-474ABFEB6D6D}" type="presOf" srcId="{A92D4E86-CAF3-4CA7-855D-0DF65C776044}" destId="{450862BC-7D98-4465-AD6B-212A238A6FE2}" srcOrd="0" destOrd="0" presId="urn:microsoft.com/office/officeart/2005/8/layout/funnel1"/>
    <dgm:cxn modelId="{0CB1ADE6-8F88-468D-80CE-4046AC1CA7DE}" srcId="{BFFA47D5-E01F-44FF-9BF0-3EF22D724B4D}" destId="{DAA1ED76-84C4-4B11-82AD-DEA9B7ED439E}" srcOrd="2" destOrd="0" parTransId="{E5767D2A-98FA-46E3-8D41-950010F3A6AB}" sibTransId="{8052D0FC-8837-4F4F-9508-520A75A05FD3}"/>
    <dgm:cxn modelId="{3F0F24FA-DECC-4116-A167-37F61C21206E}" type="presOf" srcId="{F2F035EC-397C-44CF-B486-F8EBF7F424B3}" destId="{FA294344-6BAC-4160-84D0-D0B502917A6D}" srcOrd="0" destOrd="0" presId="urn:microsoft.com/office/officeart/2005/8/layout/funnel1"/>
    <dgm:cxn modelId="{E193162D-6A95-4560-B0B9-FE8D8F6E0A8C}" srcId="{BFFA47D5-E01F-44FF-9BF0-3EF22D724B4D}" destId="{F2F035EC-397C-44CF-B486-F8EBF7F424B3}" srcOrd="1" destOrd="0" parTransId="{675FBA8D-7AFE-4FA2-989A-0BCDBBF03810}" sibTransId="{1F40D6CF-9B8C-4DA0-B037-E2C1F967A9BA}"/>
    <dgm:cxn modelId="{95D486B1-44CE-41A1-9749-CD5EC60D10B0}" type="presOf" srcId="{B706EA68-4594-4A08-9A8E-CB5981770FF0}" destId="{9B9A88F3-7A7D-43A4-AA2B-9099545A0EB0}" srcOrd="0" destOrd="0" presId="urn:microsoft.com/office/officeart/2005/8/layout/funnel1"/>
    <dgm:cxn modelId="{2CAB8CD6-6EB5-4495-9FCF-EC0F0FCA0919}" type="presParOf" srcId="{A7688C89-0F63-4AAC-B6A3-218AE12BB28F}" destId="{1A8663C3-E707-4F06-8CD9-B38B552A2337}" srcOrd="0" destOrd="0" presId="urn:microsoft.com/office/officeart/2005/8/layout/funnel1"/>
    <dgm:cxn modelId="{AE571F6E-EDB9-4B4D-84A8-429E0613411C}" type="presParOf" srcId="{A7688C89-0F63-4AAC-B6A3-218AE12BB28F}" destId="{F8C75483-25E7-4A6A-88E6-ABD777688484}" srcOrd="1" destOrd="0" presId="urn:microsoft.com/office/officeart/2005/8/layout/funnel1"/>
    <dgm:cxn modelId="{141D0A05-3D32-4573-A991-B84291705B22}" type="presParOf" srcId="{A7688C89-0F63-4AAC-B6A3-218AE12BB28F}" destId="{450862BC-7D98-4465-AD6B-212A238A6FE2}" srcOrd="2" destOrd="0" presId="urn:microsoft.com/office/officeart/2005/8/layout/funnel1"/>
    <dgm:cxn modelId="{EEF3943F-BD17-4AA3-81D6-CC6AFB264E10}" type="presParOf" srcId="{A7688C89-0F63-4AAC-B6A3-218AE12BB28F}" destId="{D4B96047-40A3-45F1-8CA4-56F6E9397B67}" srcOrd="3" destOrd="0" presId="urn:microsoft.com/office/officeart/2005/8/layout/funnel1"/>
    <dgm:cxn modelId="{C49583C2-B7C2-4D1A-AA2B-80B8273E5310}" type="presParOf" srcId="{A7688C89-0F63-4AAC-B6A3-218AE12BB28F}" destId="{FA294344-6BAC-4160-84D0-D0B502917A6D}" srcOrd="4" destOrd="0" presId="urn:microsoft.com/office/officeart/2005/8/layout/funnel1"/>
    <dgm:cxn modelId="{EA9C06F2-1B60-4565-888D-289B0361E541}" type="presParOf" srcId="{A7688C89-0F63-4AAC-B6A3-218AE12BB28F}" destId="{9B9A88F3-7A7D-43A4-AA2B-9099545A0EB0}" srcOrd="5" destOrd="0" presId="urn:microsoft.com/office/officeart/2005/8/layout/funnel1"/>
    <dgm:cxn modelId="{7023AC1E-69EB-4806-B425-AF63FDFC63AE}" type="presParOf" srcId="{A7688C89-0F63-4AAC-B6A3-218AE12BB28F}" destId="{14F3D193-5D83-4E8D-B72B-FB1493B3E637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A8663C3-E707-4F06-8CD9-B38B552A2337}">
      <dsp:nvSpPr>
        <dsp:cNvPr id="0" name=""/>
        <dsp:cNvSpPr/>
      </dsp:nvSpPr>
      <dsp:spPr>
        <a:xfrm>
          <a:off x="1798796" y="278606"/>
          <a:ext cx="5529262" cy="1920240"/>
        </a:xfrm>
        <a:prstGeom prst="ellipse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15240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8C75483-25E7-4A6A-88E6-ABD777688484}">
      <dsp:nvSpPr>
        <dsp:cNvPr id="0" name=""/>
        <dsp:cNvSpPr/>
      </dsp:nvSpPr>
      <dsp:spPr>
        <a:xfrm>
          <a:off x="4036218" y="4980622"/>
          <a:ext cx="1071562" cy="685800"/>
        </a:xfrm>
        <a:prstGeom prst="downArrow">
          <a:avLst/>
        </a:prstGeom>
        <a:solidFill>
          <a:schemeClr val="accent5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z="152400" extrusionH="63500" prstMaterial="matte">
          <a:bevelT w="50800" h="19050" prst="relaxedInset"/>
          <a:contourClr>
            <a:schemeClr val="bg1"/>
          </a:contourClr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0862BC-7D98-4465-AD6B-212A238A6FE2}">
      <dsp:nvSpPr>
        <dsp:cNvPr id="0" name=""/>
        <dsp:cNvSpPr/>
      </dsp:nvSpPr>
      <dsp:spPr>
        <a:xfrm>
          <a:off x="2000249" y="5529262"/>
          <a:ext cx="5143500" cy="128587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1808" tIns="241808" rIns="241808" bIns="241808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400" kern="1200" dirty="0" smtClean="0"/>
            <a:t>Identity Achievement</a:t>
          </a:r>
          <a:endParaRPr lang="en-US" sz="3400" kern="1200" dirty="0"/>
        </a:p>
      </dsp:txBody>
      <dsp:txXfrm>
        <a:off x="2000249" y="5529262"/>
        <a:ext cx="5143500" cy="1285875"/>
      </dsp:txXfrm>
    </dsp:sp>
    <dsp:sp modelId="{D4B96047-40A3-45F1-8CA4-56F6E9397B67}">
      <dsp:nvSpPr>
        <dsp:cNvPr id="0" name=""/>
        <dsp:cNvSpPr/>
      </dsp:nvSpPr>
      <dsp:spPr>
        <a:xfrm>
          <a:off x="3809047" y="2347150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err="1" smtClean="0"/>
            <a:t>Middlescence</a:t>
          </a:r>
          <a:r>
            <a:rPr lang="en-US" sz="1500" kern="1200" dirty="0" smtClean="0"/>
            <a:t> </a:t>
          </a:r>
          <a:endParaRPr lang="en-US" sz="1500" kern="1200" dirty="0"/>
        </a:p>
      </dsp:txBody>
      <dsp:txXfrm>
        <a:off x="4091515" y="2629618"/>
        <a:ext cx="1363876" cy="1363876"/>
      </dsp:txXfrm>
    </dsp:sp>
    <dsp:sp modelId="{FA294344-6BAC-4160-84D0-D0B502917A6D}">
      <dsp:nvSpPr>
        <dsp:cNvPr id="0" name=""/>
        <dsp:cNvSpPr/>
      </dsp:nvSpPr>
      <dsp:spPr>
        <a:xfrm>
          <a:off x="2428874" y="900112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-326222"/>
                <a:satOff val="-1491"/>
                <a:lumOff val="-353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-326222"/>
                <a:satOff val="-1491"/>
                <a:lumOff val="-353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smtClean="0"/>
            <a:t>Age Of Mastery</a:t>
          </a:r>
          <a:endParaRPr lang="en-US" sz="1500" kern="1200" dirty="0"/>
        </a:p>
      </dsp:txBody>
      <dsp:txXfrm>
        <a:off x="2711342" y="1182580"/>
        <a:ext cx="1363876" cy="1363876"/>
      </dsp:txXfrm>
    </dsp:sp>
    <dsp:sp modelId="{9B9A88F3-7A7D-43A4-AA2B-9099545A0EB0}">
      <dsp:nvSpPr>
        <dsp:cNvPr id="0" name=""/>
        <dsp:cNvSpPr/>
      </dsp:nvSpPr>
      <dsp:spPr>
        <a:xfrm>
          <a:off x="4400550" y="433768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-652444"/>
                <a:satOff val="-2983"/>
                <a:lumOff val="-706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-652444"/>
                <a:satOff val="-2983"/>
                <a:lumOff val="-706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smtClean="0"/>
            <a:t>Mid-Life Crisis</a:t>
          </a:r>
          <a:endParaRPr lang="en-US" sz="1500" kern="1200" dirty="0"/>
        </a:p>
      </dsp:txBody>
      <dsp:txXfrm>
        <a:off x="4683018" y="716236"/>
        <a:ext cx="1363876" cy="1363876"/>
      </dsp:txXfrm>
    </dsp:sp>
    <dsp:sp modelId="{14F3D193-5D83-4E8D-B72B-FB1493B3E637}">
      <dsp:nvSpPr>
        <dsp:cNvPr id="0" name=""/>
        <dsp:cNvSpPr/>
      </dsp:nvSpPr>
      <dsp:spPr>
        <a:xfrm>
          <a:off x="1477413" y="37629"/>
          <a:ext cx="6000750" cy="4800600"/>
        </a:xfrm>
        <a:prstGeom prst="funnel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12700" cap="rnd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3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9E5785-5CB7-4865-B873-D84F287B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Erikson believed the biggest struggle for middle-aged adults is the ability to create, originate, and produce (generativit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support they they are creative within various areas of their lives such as their careers, families, social circles, and commun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EFCE23-B99E-45A2-9222-0CE0CCB8DE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goal sheets while students do th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1B52B3-29E9-4135-BF49-5CEEA139C9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085-7631-4141-A7ED-C580F48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759-2C31-4A3D-911D-4E38CECE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80D-1C67-489A-A003-DF4A50B1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CB2-96A6-4E3E-A382-7C506F80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E154-95D5-47C0-986A-0C4E1A4B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8ECE-BC7C-4872-B60A-C26AF026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2CB-DA7F-467D-9CB3-2A7E36D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4A19-D625-4A05-A6EA-BC6BA61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7710-BDDE-4E89-9C7B-3E4C196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CEA2-C563-4A38-BD36-5D3110A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B1A-FF3B-4F49-A7F4-A4A4AFF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C89-3FE9-4259-90CF-F758A42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0C0B-94FF-42B4-8765-E06BDD9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771-49BC-485B-8C0D-46B3AF5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716B-0E18-4E33-B7E0-3EE03C4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2319-1561-497D-A6F7-A13227B8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DCA-A033-49E2-B137-8A94C2F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47A7-5C93-4241-A456-060A61A4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8B22-CECE-484B-B6CF-725479E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FA69-C58F-4FF9-A694-8A6DE46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9B3B-3363-4873-AAE0-A5376D0B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747F-38CC-4063-88A8-5872632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C4C-89D7-472D-8FC0-B2FBE417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5BE9-11C1-4517-A69F-935ED311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20C3-D0B1-4D48-A24C-1117748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292F-AD9D-4195-BC8E-5914A05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32DF-62C9-4549-9CFA-64E2110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4134-4DC8-428C-A067-DD1EBC76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39F7-7074-4D3C-859D-C3CAFCD4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6EF4-C5C5-4AC1-BFA6-3E761D20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A3EB-EC12-48BA-B9ED-B73F77FA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A4BAB-9D7D-4968-A510-289EAE9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7666-111D-437C-8F33-2C11D03E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CD2-8757-47B8-8572-26A34AFE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FF9F-4CFD-47D0-82DD-9F2C398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86C4-0307-465C-925E-F311718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3EA4-0640-45AA-BC3E-6F77E0E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FCBA-ED7B-4D25-B361-6866FD8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FD44-D950-4042-BA93-5CA0D0D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2F73-F21D-40CF-83D8-1F254F1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7048-80EA-4EC4-B58B-A4FDEEF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F10E-694C-4CF4-A6D5-835A3DA5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EDB6-7BEA-4BF5-AAA6-F293E67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EC6A-B393-4A70-9E44-26432D20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2DE-8AD0-4EA6-8557-E763C571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3FE4-0DBA-409F-A963-6ADE8AF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DCEE-9938-4255-ABF7-AFDB37CA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3428-6C85-42A9-A354-EA8365A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5C5D-1702-47A5-905F-B5DAD88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296E-5095-4F71-8DC5-C5C099D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7D68-A790-432E-96DE-21E4671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48FB-10EA-4C1F-A635-0F24E05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7B87-91A1-4E94-8F50-8B9E4F2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715C-0642-4DF0-8404-1339E75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EDB2-51A7-455F-B506-6BA102EB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E01-9B27-4644-BE6B-D59F39BC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13B1-228C-40FE-8D3E-9DAFB46B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93B-7C68-46FA-8472-DBB09FC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3CD-AB0E-43CB-ABFD-65A8FA1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DBD-70C7-40FA-A57B-0221066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9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0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6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0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7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8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9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2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09440" y="181296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1009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663440" y="181296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dt" idx="1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 type="ftr" idx="2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8"/>
          <p:cNvSpPr>
            <a:spLocks noGrp="1"/>
          </p:cNvSpPr>
          <p:nvPr>
            <p:ph type="sldNum" idx="3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380C06-AD23-4973-8AD4-BF866311D311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9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1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2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5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6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7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8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9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0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1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2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5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6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7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8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9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0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1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2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3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4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5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6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7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8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9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0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1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6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5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6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55916B-CA77-496B-9B99-6EBE10D5C32E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8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9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0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1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2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3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4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5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6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7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8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9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0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1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2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3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4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5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6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7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8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9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0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1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2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3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4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5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6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7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8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9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0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2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3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4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5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6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7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5E3163-7E99-478B-A628-DEF8D6A400A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7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8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9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0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1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2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3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4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5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6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7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8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9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0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1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2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3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4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5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6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7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8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9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0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1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2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3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4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5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6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7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8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9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1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2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3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4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5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6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2976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009440" y="2500200"/>
            <a:ext cx="3297600" cy="25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0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1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6A79192-5E10-4295-8661-662BC3BA9552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4516200" y="994320"/>
            <a:ext cx="1846440" cy="1530000"/>
            <a:chOff x="4516200" y="994320"/>
            <a:chExt cx="1846440" cy="1530000"/>
          </a:xfrm>
        </p:grpSpPr>
        <p:sp>
          <p:nvSpPr>
            <p:cNvPr id="364" name="Oval 31"/>
            <p:cNvSpPr/>
            <p:nvPr/>
          </p:nvSpPr>
          <p:spPr>
            <a:xfrm>
              <a:off x="5276520" y="1438200"/>
              <a:ext cx="1086120" cy="10861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5" name="Oval 32"/>
            <p:cNvSpPr/>
            <p:nvPr/>
          </p:nvSpPr>
          <p:spPr>
            <a:xfrm>
              <a:off x="5447880" y="1413000"/>
              <a:ext cx="830160" cy="83016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6" name="Oval 28"/>
            <p:cNvSpPr/>
            <p:nvPr/>
          </p:nvSpPr>
          <p:spPr>
            <a:xfrm>
              <a:off x="5053680" y="1895760"/>
              <a:ext cx="601920" cy="6019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7" name="Oval 30"/>
            <p:cNvSpPr/>
            <p:nvPr/>
          </p:nvSpPr>
          <p:spPr>
            <a:xfrm>
              <a:off x="5221440" y="1812600"/>
              <a:ext cx="489240" cy="48924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8" name="Oval 27"/>
            <p:cNvSpPr/>
            <p:nvPr/>
          </p:nvSpPr>
          <p:spPr>
            <a:xfrm>
              <a:off x="4516200" y="2084760"/>
              <a:ext cx="256320" cy="2563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9" name="Oval 29"/>
            <p:cNvSpPr/>
            <p:nvPr/>
          </p:nvSpPr>
          <p:spPr>
            <a:xfrm>
              <a:off x="5929560" y="994320"/>
              <a:ext cx="256320" cy="2563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70" name="Oval 33"/>
            <p:cNvSpPr/>
            <p:nvPr/>
          </p:nvSpPr>
          <p:spPr>
            <a:xfrm>
              <a:off x="4857120" y="1895760"/>
              <a:ext cx="196920" cy="19692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71" name="Oval 34"/>
            <p:cNvSpPr/>
            <p:nvPr/>
          </p:nvSpPr>
          <p:spPr>
            <a:xfrm>
              <a:off x="5946120" y="1062000"/>
              <a:ext cx="196920" cy="19692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372" name="PlaceHolder 6"/>
          <p:cNvSpPr>
            <a:spLocks noGrp="1"/>
          </p:cNvSpPr>
          <p:nvPr>
            <p:ph type="body"/>
          </p:nvPr>
        </p:nvSpPr>
        <p:spPr>
          <a:xfrm>
            <a:off x="4674240" y="1601640"/>
            <a:ext cx="3428640" cy="3428640"/>
          </a:xfrm>
          <a:prstGeom prst="rect">
            <a:avLst/>
          </a:prstGeom>
          <a:noFill/>
          <a:ln w="76320">
            <a:solidFill>
              <a:srgbClr val="fdc61b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icon to add pic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6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7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8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9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0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1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2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3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4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5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6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7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8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9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0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1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2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3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4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5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6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7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8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9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0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1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2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3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4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5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6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7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8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0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1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2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3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4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5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9440" y="446040"/>
            <a:ext cx="2660400" cy="118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852720" y="446040"/>
            <a:ext cx="42796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2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1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05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05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1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05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05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1009440" y="1631880"/>
            <a:ext cx="2660400" cy="42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dt" idx="13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8C0036F-D830-4BF2-850B-E74D35B74DE2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33920" y="30481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e you encountered an adult that seemed to be going through a midlife crisis or transition? If so, how? If not, do you believe you will go through such a crisi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38680" y="2389320"/>
            <a:ext cx="2495520" cy="26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dlife Trans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dlife Cri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pty-Nest Syndro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nopau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1327680" y="1905120"/>
            <a:ext cx="2883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efdfd"/>
                </a:solidFill>
                <a:latin typeface="Verdana"/>
              </a:rPr>
              <a:t>Do 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09440" y="4777560"/>
            <a:ext cx="711684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fedd78"/>
                </a:solidFill>
                <a:latin typeface="Verdana"/>
              </a:rPr>
              <a:t>March 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1398960" y="3733920"/>
            <a:ext cx="6301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291c"/>
                </a:solidFill>
                <a:latin typeface="Verdana"/>
              </a:rPr>
              <a:t>Middle Adulth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k Erik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eers and Commun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cial and Fami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088800" cy="3200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2348280" y="685800"/>
            <a:ext cx="4446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e8e8"/>
                </a:solidFill>
                <a:latin typeface="Verdana"/>
              </a:rPr>
              <a:t>Genera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900800" y="1752480"/>
            <a:ext cx="485748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 – 40 – 4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zation that “I’m not a kid anymo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men – 35- 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ngest child begins to leave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759000" y="3200400"/>
            <a:ext cx="2251440" cy="3385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437920" cy="23893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2854440" y="989280"/>
            <a:ext cx="3985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299" strike="noStrike">
                <a:solidFill>
                  <a:srgbClr val="cae858"/>
                </a:solidFill>
                <a:latin typeface="Verdana"/>
              </a:rPr>
              <a:t>Trans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44100254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09440" y="2500200"/>
            <a:ext cx="3485880" cy="33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ds grow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me feels emp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ent’s test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3880" cy="380952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4640" y="1500120"/>
            <a:ext cx="5288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fee16"/>
                </a:solidFill>
                <a:latin typeface="Verdana"/>
              </a:rPr>
              <a:t>The Empty-Nest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09440" y="446040"/>
            <a:ext cx="2660400" cy="118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op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52720" y="446040"/>
            <a:ext cx="42796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009440" y="1631880"/>
            <a:ext cx="2660400" cy="42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0’s and 50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ysical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otional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426672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swer the following ques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What is the article discuss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w does a Mid Life Transition effect men? Wom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What are some emotional issues attached with this transiti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w can severe cases be identified and treat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2033280" y="762120"/>
            <a:ext cx="5440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e8e8"/>
                </a:solidFill>
                <a:latin typeface="Verdana"/>
              </a:rPr>
              <a:t>Web MD Art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972873[[fn=Summer]]</Template>
  <TotalTime>140</TotalTime>
  <Application>LibreOffice/7.4.7.2$Linux_X86_64 LibreOffice_project/40$Build-2</Application>
  <AppVersion>15.0000</AppVersion>
  <Words>217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5:18:53Z</dcterms:created>
  <dc:creator>Michael</dc:creator>
  <dc:description/>
  <dc:language>en-US</dc:language>
  <cp:lastModifiedBy>Michael</cp:lastModifiedBy>
  <dcterms:modified xsi:type="dcterms:W3CDTF">2011-03-01T07:39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